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66C4-0E08-40AC-BC36-C80085158D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54DF-C208-42CF-9A53-EDB9FC061A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17D5-48CE-4C2E-A3B8-A5D15A0CE9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2A78-616F-43D8-AA62-CA51AF9BA2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F7AD-4532-4F33-A746-E77F822ACC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BE3B-C7AC-4190-B638-DB01BC614E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BD75-A971-4353-85D0-BC9249FE79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32A-002E-4D80-BFC5-2F029B60D5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DEC7-2E1E-4D1B-B031-1883F0655B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4CBB-1C10-4C97-9B4A-8280634FD4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D3B3-FCBE-41CB-9883-10F6B75490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9315-1D28-4EDB-B6B0-64EDDD20B5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DE59-D930-4BB4-A8AB-B6773D9741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DED2-F0D1-4962-840E-201BBBCDAD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019D-A332-4A6E-B2F0-78E99A2764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8DCD-545C-4D0E-B274-2FC4935381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7000" indent="0">
              <a:spcBef>
                <a:spcPts val="28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7000" indent="0"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B62-A467-49AD-97F7-3D990496B5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F5C2-9CB3-4DD4-8D3E-22AF1094C7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96DD-2F02-4767-BB3E-37478749B5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1171-6691-45DB-AE3C-9439B3E6F6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043F-05E9-40FE-A52F-3D28B28234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F044-35A6-4920-9DCB-D0F4083321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AFAF-23E7-49B9-85B1-2061403DB2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BCA1-D722-4376-B04B-7623BCD1AB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90AC-AEA4-4E72-B135-75345A1E34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B226-1547-4394-A0F7-A9C79F5E47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294B-55C8-4F57-A433-67E1693A56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42C1-0EBC-4E07-BF3B-5501634A5C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84B0-2539-4C6C-9A76-B2C497FC17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8F2-DE51-4012-ABC9-8AA0CCCDD8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674A-5075-4F32-821A-A0EF9CADD8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8099-6ADD-4BE9-9C5B-15177E7B1F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D03-8E4F-495A-882F-54F43D202E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4AE9-A293-41E3-A4AC-2883D0C378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855-94CC-4CB3-A826-06541A91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C0B-4E23-404E-A09F-1DF31C7E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0A8-C51F-4150-9448-98BF09ED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9FB-D690-4F43-8B64-D7AFF281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975F-1226-40AF-B230-7136DC33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B762-7BED-4E38-887B-4D4E9FCA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284C-BD02-440A-B8D8-0639188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4442-C748-4AF6-8669-9F29A88A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98DC-C22D-418A-89E1-81C65240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C0B2-5FAE-41A0-882D-1F8804E9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3AC9-B000-4D6F-A4DE-615516D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24B-7E18-47CC-BD67-3F486F9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14A4-5D1D-4200-A2BE-9692339F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4FA2-9612-461D-87C7-8C291753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EE7F-165D-48CF-B99B-2C6D58B3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A3CC-7437-426D-9890-CFB68874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E848-A7AF-41A6-B0A6-0ADFA654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8CA-A176-41CC-BA20-F8F4B9A2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EF8-3EF1-42F4-9F03-14DCD3B4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F54-43B7-4D13-A8DE-A5A785A5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F4B-0024-46A6-A180-97DFEBA6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B6D-6852-4126-85C0-F324CE94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5D4-5771-49BC-B477-2179444F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E3B-A3D2-4F63-929D-A5B1E94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E899-FB4A-4247-B96A-831A940F8D6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469E-E756-47FB-A8E1-73CAB6E92D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tiology, Classification and Diagnosis of Mental Disorder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aramond"/>
              </a:rPr>
              <a:t>MD, PhD, Milica M. Borovcanin, psychiatrist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tegrated Academic Studies of Medici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sychiat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chool Year 2023/202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Picture 46" descr=""/>
          <p:cNvPicPr/>
          <p:nvPr/>
        </p:nvPicPr>
        <p:blipFill>
          <a:blip r:embed="rId1"/>
          <a:stretch/>
        </p:blipFill>
        <p:spPr>
          <a:xfrm>
            <a:off x="3784680" y="76320"/>
            <a:ext cx="153648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ullivan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ity is "a relatively stable pattern of interpersonal situations that shape human life“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is no personality apart from its relationships with people – emphasizing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terpersonal relationship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tween peo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ity development does not end in early childhood, but i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ignificantly shaped in adolesc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Gestalt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"experience of the whole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es not depend only on its individual componen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quality of the whole is in fact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new synthe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ransactional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sonality is the structural and functional organization of three Ego states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parent ego stat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Nurturing or Critical Par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adult ego stat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child ego stat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Free Child or Adapted Child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exchange of these stimuli between persons constitutes a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transac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ociety is an aggregate of personalities and it forces individuals to accept special roles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(role theory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Behavioral 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are based on Pavlov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conditioned reflexe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basic learning theor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basic idea is that behavior is learned during life, that is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t is condition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sitive consequences of a behavior (rewards)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reinfor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behavior that caused them, and negative consequences of a behavior (punishments)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uppres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at behavi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Right Arrow 3"/>
          <p:cNvGrpSpPr/>
          <p:nvPr/>
        </p:nvGrpSpPr>
        <p:grpSpPr>
          <a:xfrm>
            <a:off x="7937640" y="5079960"/>
            <a:ext cx="1003320" cy="1117800"/>
            <a:chOff x="7937640" y="5079960"/>
            <a:chExt cx="1003320" cy="1117800"/>
          </a:xfrm>
        </p:grpSpPr>
        <p:pic>
          <p:nvPicPr>
            <p:cNvPr id="158" name="Right Arrow 3" descr=""/>
            <p:cNvPicPr/>
            <p:nvPr/>
          </p:nvPicPr>
          <p:blipFill>
            <a:blip r:embed="rId1"/>
            <a:stretch/>
          </p:blipFill>
          <p:spPr>
            <a:xfrm>
              <a:off x="7937640" y="5079960"/>
              <a:ext cx="100332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5400000">
              <a:off x="8086320" y="5308560"/>
              <a:ext cx="758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ight Arrow 4"/>
          <p:cNvGrpSpPr/>
          <p:nvPr/>
        </p:nvGrpSpPr>
        <p:grpSpPr>
          <a:xfrm>
            <a:off x="7988400" y="3301920"/>
            <a:ext cx="1003320" cy="1117800"/>
            <a:chOff x="7988400" y="3301920"/>
            <a:chExt cx="1003320" cy="1117800"/>
          </a:xfrm>
        </p:grpSpPr>
        <p:pic>
          <p:nvPicPr>
            <p:cNvPr id="161" name="Right Arrow 4" descr=""/>
            <p:cNvPicPr/>
            <p:nvPr/>
          </p:nvPicPr>
          <p:blipFill>
            <a:blip r:embed="rId2"/>
            <a:stretch/>
          </p:blipFill>
          <p:spPr>
            <a:xfrm>
              <a:off x="7988400" y="3301920"/>
              <a:ext cx="100332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16200000">
              <a:off x="8085960" y="3753000"/>
              <a:ext cx="7585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llport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raits not only show the way, relative consistency in behavior, but also encourage the personality to a certain activity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(motivational character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t is possible that something that a person did out of biological necessity later becomes an independent driving forc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hat was previously a means to satisfy a certain biological motive has become an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autonomous, independent motiv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go Psychological The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Hartmann's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go psychological theory of personality considers that the Ego has other functions besides those attributed to it by Freud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goals of Ego are not always related to conscious goal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go defenses are not always pathologica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pecial attention is paid to adapting the Ego to the environmen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aslow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elf-actualization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 an ideal goal, striving for the fullest realization of one's own possi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erson who has reach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his/her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ull potential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 is self-actualiz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rikson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Garamond"/>
              </a:rPr>
              <a:t>P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rsonality </a:t>
            </a:r>
            <a:r>
              <a:rPr b="1" lang="sr-Latn-RS" sz="2800" spc="-1" strike="noStrike">
                <a:solidFill>
                  <a:srgbClr val="c00000"/>
                </a:solidFill>
                <a:latin typeface="Garamond"/>
              </a:rPr>
              <a:t>is understood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s a continuous proces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at goes through stages, which somewhat coincide with Freud's sta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anges with characteristic signs (development) continu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until ol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Biological Basis of Human Behavio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pleasure principle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organism tries to find the greatest possible pleasure, while at the same time avoiding discomfor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leasure principle is modified by life experi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modification of the pleasure principle is called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reality princi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heory of Unconscious Motiv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uman being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re not always awar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f the motives and goals of their behavi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1900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 on the unconscious psych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eaching on repre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1923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 on Id, Ego and Supereg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Personality traits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ay of behaving and reacting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Temperament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ode of emotional response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Character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volitional and moral characteristic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Mental Life of Human Being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consists of two basic parts: conscious and un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conscious part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courages a person to take action guided by the principle of satisfaction and secur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unconsciou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which desires and other contents are suppressed, is also active and stimulates a person to ac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Arbitrary Division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8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5292720" y="1989000"/>
            <a:ext cx="3600360" cy="2654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ic impulses and pa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ological</a:t>
            </a:r>
            <a:r>
              <a:rPr b="0" lang="sr-Latn-RS" sz="2400" spc="-1" strike="noStrike">
                <a:solidFill>
                  <a:srgbClr val="ffffff"/>
                </a:solidFill>
                <a:latin typeface="Garamond"/>
              </a:rPr>
              <a:t> 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s on the pleasure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7579440" y="58053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li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292720" y="2924280"/>
            <a:ext cx="3600360" cy="3751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ys of performing tasks from the Id, Superego and 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thesis of personal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s according to the principle of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5292720" y="4365720"/>
            <a:ext cx="3600360" cy="3020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valu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function of self-observer and 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Ego ideal as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Conflict The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7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grpSp>
        <p:nvGrpSpPr>
          <p:cNvPr id="188" name="Left-Right Arrow 4"/>
          <p:cNvGrpSpPr/>
          <p:nvPr/>
        </p:nvGrpSpPr>
        <p:grpSpPr>
          <a:xfrm>
            <a:off x="2413080" y="4038480"/>
            <a:ext cx="863640" cy="609840"/>
            <a:chOff x="2413080" y="4038480"/>
            <a:chExt cx="863640" cy="609840"/>
          </a:xfrm>
        </p:grpSpPr>
        <p:pic>
          <p:nvPicPr>
            <p:cNvPr id="189" name="Left-Right Arrow 4" descr=""/>
            <p:cNvPicPr/>
            <p:nvPr/>
          </p:nvPicPr>
          <p:blipFill>
            <a:blip r:embed="rId2"/>
            <a:stretch/>
          </p:blipFill>
          <p:spPr>
            <a:xfrm>
              <a:off x="2413080" y="4038480"/>
              <a:ext cx="8636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604960" y="4199040"/>
              <a:ext cx="478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Left-Right Arrow 6"/>
          <p:cNvGrpSpPr/>
          <p:nvPr/>
        </p:nvGrpSpPr>
        <p:grpSpPr>
          <a:xfrm>
            <a:off x="7645320" y="1422360"/>
            <a:ext cx="609840" cy="2146320"/>
            <a:chOff x="7645320" y="1422360"/>
            <a:chExt cx="609840" cy="2146320"/>
          </a:xfrm>
        </p:grpSpPr>
        <p:pic>
          <p:nvPicPr>
            <p:cNvPr id="192" name="Left-Right Arrow 6" descr=""/>
            <p:cNvPicPr/>
            <p:nvPr/>
          </p:nvPicPr>
          <p:blipFill>
            <a:blip r:embed="rId3"/>
            <a:stretch/>
          </p:blipFill>
          <p:spPr>
            <a:xfrm>
              <a:off x="7645320" y="1422360"/>
              <a:ext cx="6098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5400000">
              <a:off x="7095960" y="2371680"/>
              <a:ext cx="177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7"/>
          <p:cNvSpPr/>
          <p:nvPr/>
        </p:nvSpPr>
        <p:spPr>
          <a:xfrm>
            <a:off x="-44640" y="836640"/>
            <a:ext cx="41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Left-Right Arrow 8"/>
          <p:cNvGrpSpPr/>
          <p:nvPr/>
        </p:nvGrpSpPr>
        <p:grpSpPr>
          <a:xfrm>
            <a:off x="723960" y="1206360"/>
            <a:ext cx="952560" cy="1244880"/>
            <a:chOff x="723960" y="1206360"/>
            <a:chExt cx="952560" cy="1244880"/>
          </a:xfrm>
        </p:grpSpPr>
        <p:pic>
          <p:nvPicPr>
            <p:cNvPr id="196" name="Left-Right Arrow 8" descr=""/>
            <p:cNvPicPr/>
            <p:nvPr/>
          </p:nvPicPr>
          <p:blipFill>
            <a:blip r:embed="rId4"/>
            <a:stretch/>
          </p:blipFill>
          <p:spPr>
            <a:xfrm>
              <a:off x="723960" y="1206360"/>
              <a:ext cx="95256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3882600">
              <a:off x="764640" y="1710000"/>
              <a:ext cx="8683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Left-Right Arrow 9"/>
          <p:cNvGrpSpPr/>
          <p:nvPr/>
        </p:nvGrpSpPr>
        <p:grpSpPr>
          <a:xfrm>
            <a:off x="2489040" y="5842080"/>
            <a:ext cx="851040" cy="609480"/>
            <a:chOff x="2489040" y="5842080"/>
            <a:chExt cx="851040" cy="609480"/>
          </a:xfrm>
        </p:grpSpPr>
        <p:pic>
          <p:nvPicPr>
            <p:cNvPr id="199" name="Left-Right Arrow 9" descr=""/>
            <p:cNvPicPr/>
            <p:nvPr/>
          </p:nvPicPr>
          <p:blipFill>
            <a:blip r:embed="rId5"/>
            <a:stretch/>
          </p:blipFill>
          <p:spPr>
            <a:xfrm>
              <a:off x="2489040" y="5842080"/>
              <a:ext cx="851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676600" y="5999040"/>
              <a:ext cx="4777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Role of Conflict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flicts produce discomfort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nxie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poor personality functioning (dysfunctionality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are solved by overlooking one of the conflicting elements, that is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xcluding it from the conscious part of the psych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uppression mechanism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used to exclude content or memories that cause discomfort or pain from the conscious part of the persona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uppress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done either by the Superego, or it is done by the Ego at its behest, which in that case is submissive to i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voluntary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clusion of conflicting or unpleasant thoughts, memories or impulses from conscious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is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primary Ego defense mechanism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other mechanisms only reinforce the suppre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evels of consciousness relevant to suppression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e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ub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n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07" name="Right Arrow 3"/>
          <p:cNvGrpSpPr/>
          <p:nvPr/>
        </p:nvGrpSpPr>
        <p:grpSpPr>
          <a:xfrm>
            <a:off x="4064040" y="2019240"/>
            <a:ext cx="1003320" cy="711360"/>
            <a:chOff x="4064040" y="2019240"/>
            <a:chExt cx="1003320" cy="711360"/>
          </a:xfrm>
        </p:grpSpPr>
        <p:pic>
          <p:nvPicPr>
            <p:cNvPr id="208" name="Right Arrow 3" descr=""/>
            <p:cNvPicPr/>
            <p:nvPr/>
          </p:nvPicPr>
          <p:blipFill>
            <a:blip r:embed="rId1"/>
            <a:stretch/>
          </p:blipFill>
          <p:spPr>
            <a:xfrm>
              <a:off x="4064040" y="20192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5400000">
              <a:off x="4371480" y="2085840"/>
              <a:ext cx="432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ight Arrow 4"/>
          <p:cNvGrpSpPr/>
          <p:nvPr/>
        </p:nvGrpSpPr>
        <p:grpSpPr>
          <a:xfrm>
            <a:off x="4064040" y="3174840"/>
            <a:ext cx="1003320" cy="711360"/>
            <a:chOff x="4064040" y="3174840"/>
            <a:chExt cx="1003320" cy="711360"/>
          </a:xfrm>
        </p:grpSpPr>
        <p:pic>
          <p:nvPicPr>
            <p:cNvPr id="211" name="Right Arrow 4" descr=""/>
            <p:cNvPicPr/>
            <p:nvPr/>
          </p:nvPicPr>
          <p:blipFill>
            <a:blip r:embed="rId2"/>
            <a:stretch/>
          </p:blipFill>
          <p:spPr>
            <a:xfrm>
              <a:off x="4064040" y="31748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rot="5400000">
              <a:off x="4371840" y="3238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ight Arrow 5"/>
          <p:cNvGrpSpPr/>
          <p:nvPr/>
        </p:nvGrpSpPr>
        <p:grpSpPr>
          <a:xfrm>
            <a:off x="4064040" y="4178160"/>
            <a:ext cx="1003320" cy="711360"/>
            <a:chOff x="4064040" y="4178160"/>
            <a:chExt cx="1003320" cy="711360"/>
          </a:xfrm>
        </p:grpSpPr>
        <p:pic>
          <p:nvPicPr>
            <p:cNvPr id="214" name="Right Arrow 5" descr=""/>
            <p:cNvPicPr/>
            <p:nvPr/>
          </p:nvPicPr>
          <p:blipFill>
            <a:blip r:embed="rId3"/>
            <a:stretch/>
          </p:blipFill>
          <p:spPr>
            <a:xfrm>
              <a:off x="4064040" y="417816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5400000">
              <a:off x="4371840" y="4246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10"/>
          <p:cNvSpPr/>
          <p:nvPr/>
        </p:nvSpPr>
        <p:spPr>
          <a:xfrm>
            <a:off x="971640" y="587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ergy consumption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(counterinves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Importance of Ego-Defense Mechanism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sychic phenomena used to support the suppression proc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rimary function of Ego-defense mechanisms is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educing anxiety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tection of the Ego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upporting suppression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 functions in his totality, trying to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tegrate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herited nature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dividual personality development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vents of everyday life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formative importanc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f one of the facto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ories of personality were created as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f psychological studies and find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115920"/>
          <a:ext cx="8640720" cy="6653160"/>
        </p:xfrm>
        <a:graphic>
          <a:graphicData uri="http://schemas.openxmlformats.org/drawingml/2006/table">
            <a:tbl>
              <a:tblPr/>
              <a:tblGrid>
                <a:gridCol w="3141720"/>
                <a:gridCol w="5499000"/>
              </a:tblGrid>
              <a:tr h="762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o defense mechanis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plan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li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e weakening of one instinctive impulse by using th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nergy of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roj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ssimilation of the objec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o one's own Ego or Super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dentif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consciou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cceptance of another person's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titu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replacing the objec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ith which the instinctive impulses are satis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tion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epting or resorting to a socially acceptable, more or les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logical explana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or actions or decisions that are actually produced by unconscious im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active 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ing to the other extreme,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the opposi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overcompensation for unacceptable im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j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 person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ttributes his own thoughts, emotions or impulses to another per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localizes them in the objects of the external wor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gr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e tendency for the personality to return to an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arlier situ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which is more pleasant, because the current situation is painful, unbear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ages in Psychosexual and Psychosocial developmen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2" name="Content Placeholder 3" descr=""/>
          <p:cNvPicPr/>
          <p:nvPr/>
        </p:nvPicPr>
        <p:blipFill>
          <a:blip r:embed="rId1"/>
          <a:stretch/>
        </p:blipFill>
        <p:spPr>
          <a:xfrm>
            <a:off x="-12600" y="1689120"/>
            <a:ext cx="8889840" cy="16765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79280" y="3429000"/>
            <a:ext cx="172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sucking, addi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biting, aggression, sad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nore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lcoh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12600" y="3059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1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2nd year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       3-6 years              7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-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s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    11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-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908000" y="3500280"/>
            <a:ext cx="17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expulsive </a:t>
            </a:r>
            <a:r>
              <a:rPr b="1" lang="sr-Latn-RS" sz="1800" spc="-1" strike="noStrike">
                <a:solidFill>
                  <a:srgbClr val="c00000"/>
                </a:solidFill>
                <a:latin typeface="Garamond"/>
                <a:ea typeface="Arial"/>
              </a:rPr>
              <a:t>stage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</a:t>
            </a:r>
            <a:r>
              <a:rPr b="0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expulsiv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retention </a:t>
            </a:r>
            <a:r>
              <a:rPr b="1" lang="sr-Latn-RS" sz="1800" spc="-1" strike="noStrike">
                <a:solidFill>
                  <a:srgbClr val="c00000"/>
                </a:solidFill>
                <a:latin typeface="Garamond"/>
                <a:ea typeface="Arial"/>
              </a:rPr>
              <a:t>stage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reten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obsessive-compulsi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ersonality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708360" y="3500280"/>
            <a:ext cx="17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oedipal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primal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castration f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frigidity, anorgasmia, impo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nxiety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5364000" y="3500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same-sex friendshi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7164360" y="3500280"/>
            <a:ext cx="172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early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middl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lat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dependence -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n Objective View in Psychiat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non-compliance of psychiatrists in the process of diagnosis showed significant differen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 attempt to minimize the subjectivity of psychiatrist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cise diagnostic principles and minimum symptoms that should be determined for each nosological unit have been elaborat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lassification of Mental Disorde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413000"/>
            <a:ext cx="8507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thoanatomical classification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organic and functional mental disorder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ccording to etiology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endogenous and exogenous mental disorder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mptomatic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chogenic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active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0720" y="5601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lassification of Mental Disord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Based on Clinical Phenomenolog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680" y="1717560"/>
            <a:ext cx="438948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ernational Classification of Diseases and Related Health Problems,</a:t>
            </a:r>
            <a:r>
              <a:rPr b="1" lang="sr-Latn-R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revision (ICD-10)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orld Health Organiz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6280" y="3197160"/>
            <a:ext cx="4039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00-F99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6000" y="1862280"/>
            <a:ext cx="42483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Diagnostic and Statistical Manual, 5th Revision – DSM-5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erican Psychiatric Associ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7" name="Content Placeholder 9" descr="index.jpg"/>
          <p:cNvPicPr/>
          <p:nvPr/>
        </p:nvPicPr>
        <p:blipFill>
          <a:blip r:embed="rId1"/>
          <a:stretch/>
        </p:blipFill>
        <p:spPr>
          <a:xfrm>
            <a:off x="5219640" y="4221000"/>
            <a:ext cx="2895840" cy="1581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Image result for mkb 10"/>
          <p:cNvPicPr/>
          <p:nvPr/>
        </p:nvPicPr>
        <p:blipFill>
          <a:blip r:embed="rId2"/>
          <a:stretch/>
        </p:blipFill>
        <p:spPr>
          <a:xfrm>
            <a:off x="1765440" y="377352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Oval 8"/>
          <p:cNvSpPr/>
          <p:nvPr/>
        </p:nvSpPr>
        <p:spPr>
          <a:xfrm>
            <a:off x="357120" y="1197000"/>
            <a:ext cx="3422880" cy="874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ental and behavioral disorders are the result of complex interactions between biological, psychological and social factor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ental, physical and social health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re interwined and interdependent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1" name="Diagram 3" descr=""/>
          <p:cNvPicPr/>
          <p:nvPr/>
        </p:nvPicPr>
        <p:blipFill>
          <a:blip r:embed="rId1"/>
          <a:stretch/>
        </p:blipFill>
        <p:spPr>
          <a:xfrm>
            <a:off x="4572000" y="2235240"/>
            <a:ext cx="45720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242" name="Straight Arrow Connector 5"/>
          <p:cNvCxnSpPr/>
          <p:nvPr/>
        </p:nvCxnSpPr>
        <p:spPr>
          <a:xfrm>
            <a:off x="1835280" y="2060640"/>
            <a:ext cx="5023080" cy="2448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iagnosis of mental disorde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amnesi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utoanamnes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data is obtained from the patient himself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heteroanamnes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taking data from another person, family member or friend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re direct and active conducting of interviews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simulation – aggravation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sychiatric interview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therapist is the main weapon of the interview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the first meeting, the therapist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mpath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especially importa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rbal and non-verbal communic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"/>
          <p:cNvPicPr/>
          <p:nvPr/>
        </p:nvPicPr>
        <p:blipFill>
          <a:blip r:embed="rId1"/>
          <a:stretch/>
        </p:blipFill>
        <p:spPr>
          <a:xfrm>
            <a:off x="457200" y="241200"/>
            <a:ext cx="82296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Outline of Psychiatric Hist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dentifying dat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ief complai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istory of Present Ill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 histo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mily histo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iagram 3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ental Status Examin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General Appearance and Behavior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Speech Characteristic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onsciousness and Orienta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ttention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ception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Think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telligenc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motions (Mood and Affect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ge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Willpower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lang="sr-RS" sz="2600" spc="-1" strike="noStrike">
                <a:solidFill>
                  <a:srgbClr val="c00000"/>
                </a:solidFill>
                <a:latin typeface="Garamond"/>
              </a:rPr>
              <a:t>10.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ralit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Insight and Judgemen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mplementary methods in the examination of mental disord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Psychological tests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Garamond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titude test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ersonality tests (questionnaires and projective test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cialized tests for examination of certain psychological functions and certain clinical syndrome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Physico-biological auxiliary diagnostic methods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(biochemical analyzes of blood or urine, brain visualization methods, neurophysiological tests, genetic markers...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Neuroplastic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earlier dogma that the adult brain cannot produce new neurons through experiments has been challeng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animals, in the regions responsible for learning and memory, new neurons can be formed in adulthoo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Brain plasticity refers to its ability to change – to respond to stimul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It is manifested by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vascul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synapt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neur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Cogni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Specific functions and processes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cep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tten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hape recogni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rmation of concept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nguag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Personality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s a unique organization of traits, formed by the action of the organism and the social environment, and determines a unique way of behav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n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integrative approach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is needed in looking at the possible etiological factors that caused the emergence of mental disorder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urrently, in our country,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the application of ICD-10 for diagnosing mental disorders is legally bind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"psychiatry is best learned from intelligent patients"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reud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came the basis of an entire therapeutic system known a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psychoanaly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poses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unconscious confli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dler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n's basic aspiration is striving for superiority: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”The Will to Power"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influence of Nietzsche's philosoph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 emphasized the role of the conscious part of the personality, as well as the importance of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nvironmental facto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t the base of the will to power is not sexuality, but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ggressive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Jung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addition to the Ego and the personal unconscious, there is also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collective unconsciou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ithin the persona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collective unconscious is a collection of latent memory traces inherited from the human pas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tructural components of the collective unconscious ar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rchetyp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universal forms of human thoughts and ide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Horney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"Basic anxiety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– the child's feeling of helpless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child is helpless in a collision with parental author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"Neurotic needs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formed, as an attempt to adapt and overcome basic anxie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these needs dominate the individual, then they are pathologic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romm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The personality is shaped by relations with the whole societ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The need for association, for status in society, for a sense of identity, for creativity etc. plays an important role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Garamond"/>
              </a:rPr>
              <a:t>"sentenced to freedom"           "the art of love”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6" name="Right Arrow 4"/>
          <p:cNvGrpSpPr/>
          <p:nvPr/>
        </p:nvGrpSpPr>
        <p:grpSpPr>
          <a:xfrm>
            <a:off x="4356000" y="5486400"/>
            <a:ext cx="1117800" cy="1003320"/>
            <a:chOff x="4356000" y="5486400"/>
            <a:chExt cx="1117800" cy="1003320"/>
          </a:xfrm>
        </p:grpSpPr>
        <p:pic>
          <p:nvPicPr>
            <p:cNvPr id="147" name="Right Arrow 4" descr=""/>
            <p:cNvPicPr/>
            <p:nvPr/>
          </p:nvPicPr>
          <p:blipFill>
            <a:blip r:embed="rId1"/>
            <a:stretch/>
          </p:blipFill>
          <p:spPr>
            <a:xfrm>
              <a:off x="4356000" y="5486400"/>
              <a:ext cx="11178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7640" y="5735520"/>
              <a:ext cx="7603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9T10:21:24Z</dcterms:created>
  <dc:creator>Milica Borovcanin</dc:creator>
  <dc:description/>
  <dc:language>en-US</dc:language>
  <cp:lastModifiedBy>Milica Borovcanin</cp:lastModifiedBy>
  <dcterms:modified xsi:type="dcterms:W3CDTF">2024-02-13T22:57:48Z</dcterms:modified>
  <cp:revision>79</cp:revision>
  <dc:subject/>
  <dc:title>Slide 1</dc:title>
</cp:coreProperties>
</file>